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93FB-1D71-4A91-AE3C-385ECBD4BC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31C9-4BFC-4525-A46B-AE1591654D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008A-6FC0-4938-9490-9871B6371C7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DEDB-309F-44F5-A667-8EE6FD5D553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2DE8-4B00-4E52-9BB5-4B022AFDFC6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8EB1-0FD2-408B-8416-1AA392CD3B3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09BA-A72B-499F-BE91-DABBFD0A75C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FEE6-D3C3-4F8E-A270-40882A61C87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E179-6F59-43EA-96D4-4191FD4CE11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325B-DAB0-4AB9-BFDF-9205438DA2C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1D45-3D41-4A48-BDAE-5B7A6C94F0F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90630-0746-46CF-B326-070FC0A8D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6444E-8F44-42A6-A4D7-93FFDD91D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CA631-0A11-4950-804E-35E0DA9B4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CBCD7-9A51-49A8-9865-DCB1C25DA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8A2A0-90CE-4E0E-88F5-BAE8855DC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ED231-7610-4FC7-A240-71049D34D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3B489-3785-4683-889A-C6C16CAD6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0B353-121A-4144-9D54-269440412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95A0A-F2E6-4ED6-8801-8E581E8CF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678C6-6D13-4D6E-B316-E3F13063B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A5868-E252-4C5C-A638-3F6EF5B78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C35EC-3652-4F25-8135-6D4CAC39A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B0F82-85F3-44C8-941C-D07577E84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E512A-769C-4199-A84F-3116C972F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778F7-221C-42E5-8AA4-B7D9451FB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15710-4209-4BD3-B40B-3EA25466C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216FD-A607-43FF-B904-7859ED3FC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CDB54-228A-4E3B-8232-DAF7C81EC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F302F-FF4D-4EC5-8D9F-085D7BC6B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36AB6-FEA7-4A69-A24B-CD7DBE221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67B4A-8288-4881-B51E-29BB1E790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1111E-C741-46B3-96ED-832624529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7EE1E-5508-4C02-8A98-F99F5C278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51579-F5B6-4F94-A427-603397E73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D488-6641-43F7-B7F6-A72A341056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C2BF-AEB2-4D79-8BB9-755A5A3B785D}"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whatsignature.com/"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whatsignature.com/" TargetMode="External"/><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0"/>
            <a:ext cx="9372600" cy="702936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80880" y="2209680"/>
            <a:ext cx="83822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PO Box 177</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asar NC 28020</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704.418.2628 (Max Direct)</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www.maxbankruptcybootcamp.com</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www.maxgardnerlaw.com</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maxgardner@maxgardner.com</a:t>
            </a:r>
            <a:endParaRPr b="0" lang="en-US" sz="3600" spc="-1" strike="noStrike">
              <a:solidFill>
                <a:srgbClr val="ffffff"/>
              </a:solidFill>
              <a:latin typeface="Tahoma"/>
            </a:endParaRPr>
          </a:p>
        </p:txBody>
      </p:sp>
      <p:sp>
        <p:nvSpPr>
          <p:cNvPr id="106" name="Text Box 3"/>
          <p:cNvSpPr/>
          <p:nvPr/>
        </p:nvSpPr>
        <p:spPr>
          <a:xfrm>
            <a:off x="533520" y="533520"/>
            <a:ext cx="8001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Max Gardner’s</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Bankruptcy Boot Camps</a:t>
            </a:r>
            <a:endParaRPr b="0" lang="en-US" sz="40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whatsignature</a:t>
            </a:r>
            <a:endParaRPr b="0" lang="en-US" sz="4400" spc="-1" strike="noStrike">
              <a:solidFill>
                <a:srgbClr val="ffffcc"/>
              </a:solidFill>
              <a:latin typeface="Tahoma"/>
            </a:endParaRPr>
          </a:p>
        </p:txBody>
      </p:sp>
      <p:pic>
        <p:nvPicPr>
          <p:cNvPr id="97" name="Picture 3" descr="newbanner"/>
          <p:cNvPicPr/>
          <p:nvPr/>
        </p:nvPicPr>
        <p:blipFill>
          <a:blip r:embed="rId1"/>
          <a:stretch/>
        </p:blipFill>
        <p:spPr>
          <a:xfrm>
            <a:off x="533520" y="719280"/>
            <a:ext cx="8001000" cy="2279520"/>
          </a:xfrm>
          <a:prstGeom prst="rect">
            <a:avLst/>
          </a:prstGeom>
          <a:ln w="25560">
            <a:solidFill>
              <a:srgbClr val="ffffff"/>
            </a:solidFill>
            <a:miter/>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anim calcmode="lin" valueType="num">
                                      <p:cBhvr additive="repl">
                                        <p:cTn id="8" dur="1000" fill="hold"/>
                                        <p:tgtEl>
                                          <p:spTgt spid="97"/>
                                        </p:tgtEl>
                                        <p:attrNameLst>
                                          <p:attrName>r</p:attrName>
                                        </p:attrNameLst>
                                      </p:cBhvr>
                                      <p:tavLst>
                                        <p:tav tm="0">
                                          <p:val>
                                            <p:strVal val="720"/>
                                          </p:val>
                                        </p:tav>
                                        <p:tav tm="100000">
                                          <p:val>
                                            <p:strVal val="0"/>
                                          </p:val>
                                        </p:tav>
                                      </p:tavLst>
                                    </p:anim>
                                    <p:anim calcmode="lin" valueType="num">
                                      <p:cBhvr additive="repl">
                                        <p:cTn id="9" dur="1000" fill="hold"/>
                                        <p:tgtEl>
                                          <p:spTgt spid="97"/>
                                        </p:tgtEl>
                                        <p:attrNameLst>
                                          <p:attrName>ppt_h</p:attrName>
                                        </p:attrNameLst>
                                      </p:cBhvr>
                                      <p:tavLst>
                                        <p:tav tm="0">
                                          <p:val>
                                            <p:fltVal val="0"/>
                                          </p:val>
                                        </p:tav>
                                        <p:tav tm="100000">
                                          <p:val>
                                            <p:strVal val="#ppt_h"/>
                                          </p:val>
                                        </p:tav>
                                      </p:tavLst>
                                    </p:anim>
                                    <p:anim calcmode="lin" valueType="num">
                                      <p:cBhvr additive="repl">
                                        <p:cTn id="10" dur="1000" fill="hold"/>
                                        <p:tgtEl>
                                          <p:spTgt spid="97"/>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96"/>
                                        </p:tgtEl>
                                        <p:attrNameLst>
                                          <p:attrName>style.visibility</p:attrName>
                                        </p:attrNameLst>
                                      </p:cBhvr>
                                      <p:to>
                                        <p:strVal val="visible"/>
                                      </p:to>
                                    </p:set>
                                    <p:anim calcmode="lin" valueType="num">
                                      <p:cBhvr additive="repl">
                                        <p:cTn id="14" dur="1000" fill="hold"/>
                                        <p:tgtEl>
                                          <p:spTgt spid="96"/>
                                        </p:tgtEl>
                                        <p:attrNameLst>
                                          <p:attrName>ppt_w</p:attrName>
                                        </p:attrNameLst>
                                      </p:cBhvr>
                                      <p:tavLst>
                                        <p:tav tm="0">
                                          <p:val>
                                            <p:fltVal val="0"/>
                                          </p:val>
                                        </p:tav>
                                        <p:tav tm="100000">
                                          <p:val>
                                            <p:strVal val="#ppt_w"/>
                                          </p:val>
                                        </p:tav>
                                      </p:tavLst>
                                    </p:anim>
                                    <p:anim calcmode="lin" valueType="num">
                                      <p:cBhvr additive="repl">
                                        <p:cTn id="15" dur="1000" fill="hold"/>
                                        <p:tgtEl>
                                          <p:spTgt spid="96"/>
                                        </p:tgtEl>
                                        <p:attrNameLst>
                                          <p:attrName>ppt_h</p:attrName>
                                        </p:attrNameLst>
                                      </p:cBhvr>
                                      <p:tavLst>
                                        <p:tav tm="0">
                                          <p:val>
                                            <p:fltVal val="0"/>
                                          </p:val>
                                        </p:tav>
                                        <p:tav tm="100000">
                                          <p:val>
                                            <p:strVal val="#ppt_h"/>
                                          </p:val>
                                        </p:tav>
                                      </p:tavLst>
                                    </p:anim>
                                    <p:animEffect filter="fade" transition="in">
                                      <p:cBhvr additive="repl">
                                        <p:cTn id="16"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304920" y="822240"/>
            <a:ext cx="84582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Arial"/>
                <a:hlinkClick r:id="rId1"/>
              </a:rPr>
              <a:t>WhatSignature.com</a:t>
            </a:r>
            <a:r>
              <a:rPr b="1" lang="en-US" sz="2800" spc="-1" strike="noStrike">
                <a:solidFill>
                  <a:srgbClr val="ffffff"/>
                </a:solidFill>
                <a:latin typeface="Arial"/>
              </a:rPr>
              <a:t> </a:t>
            </a:r>
            <a:r>
              <a:rPr b="1" lang="en-US" sz="2800" spc="-1" strike="noStrike">
                <a:solidFill>
                  <a:srgbClr val="ffffcc"/>
                </a:solidFill>
                <a:latin typeface="Arial"/>
              </a:rPr>
              <a:t>was created for consumers as a depository/filing database to contribute and/or compare pleadings, transcripts, and signatures of lawyers, notaries, and banking/lending employees during the consumer’s foreclosure experience. You may also find depositions posted as  they become public in nature. This does not constitute that any signatures or documents submitted are false in nature, nor does it constitute that fraud or fabrication has occurred. That is up to the authorities and our judicial system to decide.</a:t>
            </a:r>
            <a:r>
              <a:rPr b="1" lang="en-US" sz="1800" spc="-1" strike="noStrike">
                <a:solidFill>
                  <a:srgbClr val="ffffcc"/>
                </a:solidFill>
                <a:latin typeface="Tahoma"/>
              </a:rPr>
              <a:t> </a:t>
            </a:r>
            <a:endParaRPr b="0" lang="en-US" sz="18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04920" y="1247400"/>
            <a:ext cx="84582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though most, if not all, foreclosure cases are public records, this site allows consumers to share their information and/or documentation in one database location.</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onsumers also have the option of sharing any/all of their pleadings that have become part of the public records. You may also contribute any court reported transcripts for which you have concerning your specific hearing(s).</a:t>
            </a:r>
            <a:endParaRPr b="0" lang="en-US" sz="28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04920" y="1242360"/>
            <a:ext cx="84582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ose who contribute, share, and/or access this information may also be those that are fighting to save their homes. It is advisable to secure legal representation.</a:t>
            </a:r>
            <a:br>
              <a:rPr sz="2800"/>
            </a:br>
            <a:br>
              <a:rPr sz="2800"/>
            </a:br>
            <a:r>
              <a:rPr b="1" lang="en-US" sz="2800" spc="-1" strike="noStrike">
                <a:solidFill>
                  <a:srgbClr val="ffffcc"/>
                </a:solidFill>
                <a:latin typeface="Arial"/>
              </a:rPr>
              <a:t>There is no blog section, no comment section, or any place to post your experience. There are other websites for that nature. However, there are links provided so you, the consumer, can connect with others for support.</a:t>
            </a:r>
            <a:endParaRPr b="0"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04920" y="1237680"/>
            <a:ext cx="84582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It is recommended, but not required, for those who are contributing their documents to allow the case number, county, state, and court judicial district to be viewable. This will assist others in other's research for their specific foreclosure case when or where necessary. However, you have the right to delete, cross out, redact, or hide any/all information on your documents, including your name(s) and loan number.</a:t>
            </a:r>
            <a:endParaRPr b="0" lang="en-US" sz="28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4920" y="2700720"/>
            <a:ext cx="845820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YPES OF                    DOCUMENT SEARCH</a:t>
            </a:r>
            <a:endParaRPr b="0" lang="en-US" sz="44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04920" y="1878480"/>
            <a:ext cx="84582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ignature Search: Last name, First name</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cc"/>
                </a:solidFill>
                <a:latin typeface="Arial"/>
              </a:rPr>
              <a:t>Depositions: Last name, First name, Company</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cc"/>
                </a:solidFill>
                <a:latin typeface="Arial"/>
              </a:rPr>
              <a:t>Pleadings: State, County, Type</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cc"/>
                </a:solidFill>
                <a:latin typeface="Arial"/>
              </a:rPr>
              <a:t>Transcripts: State, County</a:t>
            </a:r>
            <a:endParaRPr b="0" lang="en-US" sz="28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035880"/>
            <a:ext cx="84582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LINK</a:t>
            </a:r>
            <a:endParaRPr b="0" lang="en-US" sz="44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8:32:38Z</dcterms:created>
  <dc:creator> </dc:creator>
  <dc:description/>
  <dc:language>en-US</dc:language>
  <cp:lastModifiedBy>user1</cp:lastModifiedBy>
  <dcterms:modified xsi:type="dcterms:W3CDTF">2011-02-15T16:28:22Z</dcterms:modified>
  <cp:revision>3</cp:revision>
  <dc:subject/>
  <dc:title>whatsignature</dc:title>
</cp:coreProperties>
</file>